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7.jpeg" ContentType="image/jpeg"/>
  <Override PartName="/ppt/media/image6.jpeg" ContentType="image/jpeg"/>
  <Override PartName="/ppt/media/image60.png" ContentType="image/pn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41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54.jpeg" ContentType="image/jpe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media/image5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" Target="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" Target="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486080" y="6173640"/>
            <a:ext cx="1828800" cy="641520"/>
          </a:xfrm>
          <a:prstGeom prst="rect">
            <a:avLst/>
          </a:prstGeom>
          <a:noFill/>
          <a:ln w="255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cca22"/>
                </a:solidFill>
                <a:latin typeface="Times New Roman"/>
              </a:rPr>
              <a:t>To return to the chapter summary click Escape or close this docu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6345360"/>
            <a:ext cx="301680" cy="2934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4029120" y="6332400"/>
            <a:ext cx="30492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82080" y="6267600"/>
            <a:ext cx="533160" cy="4777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800600" y="63342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57200" y="6297480"/>
            <a:ext cx="457200" cy="4082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image" Target="../media/image9.jpeg"/><Relationship Id="rId8" Type="http://schemas.openxmlformats.org/officeDocument/2006/relationships/slide" Target="slide22.xml"/><Relationship Id="rId9" Type="http://schemas.openxmlformats.org/officeDocument/2006/relationships/slide" Target=""/><Relationship Id="rId10" Type="http://schemas.openxmlformats.org/officeDocument/2006/relationships/image" Target="../media/image10.jpeg"/><Relationship Id="rId11" Type="http://schemas.openxmlformats.org/officeDocument/2006/relationships/slide" Target=""/><Relationship Id="rId12" Type="http://schemas.openxmlformats.org/officeDocument/2006/relationships/slide" Target="slide27.xml"/><Relationship Id="rId13" Type="http://schemas.openxmlformats.org/officeDocument/2006/relationships/slide" Target="slide27.xml"/><Relationship Id="rId14" Type="http://schemas.openxmlformats.org/officeDocument/2006/relationships/slide" Target="slide42.xml"/><Relationship Id="rId15" Type="http://schemas.openxmlformats.org/officeDocument/2006/relationships/slide" Target=""/><Relationship Id="rId16" Type="http://schemas.openxmlformats.org/officeDocument/2006/relationships/image" Target="../media/image11.jpeg"/><Relationship Id="rId17" Type="http://schemas.openxmlformats.org/officeDocument/2006/relationships/slide" Target=""/><Relationship Id="rId18" Type="http://schemas.openxmlformats.org/officeDocument/2006/relationships/slide" Target="slide33.xml"/><Relationship Id="rId19" Type="http://schemas.openxmlformats.org/officeDocument/2006/relationships/slide" Target=""/><Relationship Id="rId20" Type="http://schemas.openxmlformats.org/officeDocument/2006/relationships/slide" Target="slide30.xml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image" Target="../media/image14.jpeg"/><Relationship Id="rId4" Type="http://schemas.openxmlformats.org/officeDocument/2006/relationships/slide" Target=""/><Relationship Id="rId5" Type="http://schemas.openxmlformats.org/officeDocument/2006/relationships/image" Target="../media/image15.jpeg"/><Relationship Id="rId6" Type="http://schemas.openxmlformats.org/officeDocument/2006/relationships/slide" Target=""/><Relationship Id="rId7" Type="http://schemas.openxmlformats.org/officeDocument/2006/relationships/image" Target="../media/image16.jpeg"/><Relationship Id="rId8" Type="http://schemas.openxmlformats.org/officeDocument/2006/relationships/slide" Target=""/><Relationship Id="rId9" Type="http://schemas.openxmlformats.org/officeDocument/2006/relationships/image" Target="../media/image17.jpeg"/><Relationship Id="rId10" Type="http://schemas.openxmlformats.org/officeDocument/2006/relationships/slide" Target=""/><Relationship Id="rId11" Type="http://schemas.openxmlformats.org/officeDocument/2006/relationships/image" Target="../media/image18.jpeg"/><Relationship Id="rId12" Type="http://schemas.openxmlformats.org/officeDocument/2006/relationships/slide" Target=""/><Relationship Id="rId13" Type="http://schemas.openxmlformats.org/officeDocument/2006/relationships/image" Target="../media/image19.jpeg"/><Relationship Id="rId14" Type="http://schemas.openxmlformats.org/officeDocument/2006/relationships/slide" Target=""/><Relationship Id="rId15" Type="http://schemas.openxmlformats.org/officeDocument/2006/relationships/image" Target="../media/image20.jpeg"/><Relationship Id="rId16" Type="http://schemas.openxmlformats.org/officeDocument/2006/relationships/slide" Target=""/><Relationship Id="rId17" Type="http://schemas.openxmlformats.org/officeDocument/2006/relationships/image" Target="../media/image21.jpeg"/><Relationship Id="rId18" Type="http://schemas.openxmlformats.org/officeDocument/2006/relationships/slide" Target=""/><Relationship Id="rId19" Type="http://schemas.openxmlformats.org/officeDocument/2006/relationships/image" Target="../media/image22.jpeg"/><Relationship Id="rId20" Type="http://schemas.openxmlformats.org/officeDocument/2006/relationships/slide" Target=""/><Relationship Id="rId21" Type="http://schemas.openxmlformats.org/officeDocument/2006/relationships/image" Target="../media/image23.jpeg"/><Relationship Id="rId22" Type="http://schemas.openxmlformats.org/officeDocument/2006/relationships/image" Target="../media/image24.jpeg"/><Relationship Id="rId23" Type="http://schemas.openxmlformats.org/officeDocument/2006/relationships/image" Target="../media/image25.jpeg"/><Relationship Id="rId24" Type="http://schemas.openxmlformats.org/officeDocument/2006/relationships/image" Target="../media/image26.jpeg"/><Relationship Id="rId25" Type="http://schemas.openxmlformats.org/officeDocument/2006/relationships/image" Target="../media/image27.jpeg"/><Relationship Id="rId26" Type="http://schemas.openxmlformats.org/officeDocument/2006/relationships/image" Target="../media/image28.jpeg"/><Relationship Id="rId27" Type="http://schemas.openxmlformats.org/officeDocument/2006/relationships/image" Target="../media/image29.jpeg"/><Relationship Id="rId28" Type="http://schemas.openxmlformats.org/officeDocument/2006/relationships/image" Target="../media/image30.jpeg"/><Relationship Id="rId29" Type="http://schemas.openxmlformats.org/officeDocument/2006/relationships/image" Target="../media/image31.jpeg"/><Relationship Id="rId30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" Target="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2.jpeg"/><Relationship Id="rId8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2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67720" y="0"/>
            <a:ext cx="28051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523880" y="7300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9f9"/>
                </a:solidFill>
                <a:latin typeface="Times New Roman"/>
              </a:rPr>
              <a:t>Click on one of the following icons to go to that resou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19920" y="3505320"/>
            <a:ext cx="1600200" cy="42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1971720"/>
            <a:ext cx="0" cy="360036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562720"/>
            <a:ext cx="1067040" cy="144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3798720"/>
            <a:ext cx="1067040" cy="180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160800"/>
            <a:ext cx="1067040" cy="144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570040"/>
            <a:ext cx="1067040" cy="180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1981080"/>
            <a:ext cx="1067040" cy="180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7560" y="177804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cca22"/>
                </a:solidFill>
                <a:uFillTx/>
                <a:latin typeface="Times New Roman"/>
              </a:rPr>
              <a:t>glencoe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876920" y="1736640"/>
            <a:ext cx="685800" cy="54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43760" y="235584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5" action="ppaction://hlinksldjump"/>
              </a:rPr>
              <a:t>Image 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816440" y="2266920"/>
            <a:ext cx="538200" cy="628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44120" y="29624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8" action="ppaction://hlinksldjump"/>
              </a:rPr>
              <a:t>Fold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587840" y="2901960"/>
            <a:ext cx="787320" cy="56340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11" action="ppaction://hlinksldjump"/>
          </p:cNvPr>
          <p:cNvSpPr/>
          <p:nvPr/>
        </p:nvSpPr>
        <p:spPr>
          <a:xfrm>
            <a:off x="3423960" y="357192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12" action="ppaction://hlinksldjump"/>
              </a:rPr>
              <a:t>Video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13" action="ppaction://hlinksldjump"/>
              </a:rPr>
              <a:t>Clips</a:t>
            </a:r>
            <a:r>
              <a:rPr b="0" lang="en-US" sz="2000" spc="-1" strike="noStrike" u="sng">
                <a:solidFill>
                  <a:srgbClr val="ecca22"/>
                </a:solidFill>
                <a:uFillTx/>
                <a:latin typeface="Times New Roman"/>
              </a:rPr>
              <a:t> and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34760" y="533412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14" action="ppaction://hlinksldjump"/>
              </a:rPr>
              <a:t>Standardized Test Pract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315120" y="5378400"/>
            <a:ext cx="388800" cy="42552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17" action="ppaction://hlinksldjump"/>
          </p:cNvPr>
          <p:cNvSpPr/>
          <p:nvPr/>
        </p:nvSpPr>
        <p:spPr>
          <a:xfrm>
            <a:off x="3425760" y="477216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18" action="ppaction://hlinksldjump"/>
              </a:rPr>
              <a:t>Chapter Review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4981680"/>
            <a:ext cx="1067040" cy="144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>
            <a:hlinkClick r:id="rId19" action="ppaction://hlinksldjump"/>
          </p:cNvPr>
          <p:cNvSpPr/>
          <p:nvPr/>
        </p:nvSpPr>
        <p:spPr>
          <a:xfrm>
            <a:off x="3426120" y="4172040"/>
            <a:ext cx="20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20" action="ppaction://hlinksldjump"/>
              </a:rPr>
              <a:t>Chapter Summ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4400640"/>
            <a:ext cx="1067040" cy="144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62120" y="16765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Dinosaur Footpr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32544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2895480" y="8190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Fossil Rang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22200" y="1676520"/>
            <a:ext cx="669960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533520" y="1676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North Amer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310 Mill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398840" y="743040"/>
            <a:ext cx="3678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2152800" y="762120"/>
            <a:ext cx="48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Undisturbed Layers of 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14680" y="1523880"/>
            <a:ext cx="571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255276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Folded Layers of 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95280" y="1739880"/>
            <a:ext cx="65534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990720" y="1600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819520" y="1066680"/>
            <a:ext cx="57150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3581280" y="762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Dat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714680" y="1600200"/>
            <a:ext cx="5715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3390840" y="762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Decay 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866960" y="1523880"/>
            <a:ext cx="5410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4000680" y="762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670040" y="1676520"/>
            <a:ext cx="58039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000680" y="762120"/>
            <a:ext cx="3543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381400" y="1523880"/>
            <a:ext cx="4381200" cy="4235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31560" y="685800"/>
            <a:ext cx="27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562360" cy="5262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33920" y="1020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glenco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4000680" y="762120"/>
            <a:ext cx="3543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031560" y="685800"/>
            <a:ext cx="27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828800" y="1600200"/>
            <a:ext cx="57150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4000680" y="762120"/>
            <a:ext cx="3543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31560" y="685800"/>
            <a:ext cx="27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1371600" y="2133720"/>
            <a:ext cx="68580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1600" y="2844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Fold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762120"/>
            <a:ext cx="4648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ge of Roc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457200" y="201132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Make the following Foldable to help you understand how scientists determine the age of a r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58000" y="720720"/>
            <a:ext cx="19051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1600" y="2844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Fold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0" y="720720"/>
            <a:ext cx="1905120" cy="95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1981080"/>
            <a:ext cx="4648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ca22"/>
                </a:solidFill>
                <a:latin typeface="Times New Roman"/>
              </a:rPr>
              <a:t>Fol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sheet of paper in half lengthw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523880" y="628560"/>
            <a:ext cx="1447920" cy="666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819520" y="3200400"/>
            <a:ext cx="5715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1600" y="2844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Fold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308320"/>
            <a:ext cx="3809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ca22"/>
                </a:solidFill>
                <a:latin typeface="Times New Roman"/>
              </a:rPr>
              <a:t>Fol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per down 2.5 cm from the top. (Hint: From the tip of your index finger to your middle knuckle is about 2.5 c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0" y="720720"/>
            <a:ext cx="1905120" cy="955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23880" y="609480"/>
            <a:ext cx="1447920" cy="687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297320" y="1143000"/>
            <a:ext cx="2179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1600" y="2844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Fold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289240"/>
            <a:ext cx="3809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ca22"/>
                </a:solidFill>
                <a:latin typeface="Times New Roman"/>
              </a:rPr>
              <a:t>Open and Draw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s along the 2.5-cm fold. </a:t>
            </a:r>
            <a:r>
              <a:rPr b="0" lang="en-US" sz="3200" spc="-1" strike="noStrike">
                <a:solidFill>
                  <a:srgbClr val="ecca22"/>
                </a:solidFill>
                <a:latin typeface="Times New Roman"/>
              </a:rPr>
              <a:t>Labe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shown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0" y="720720"/>
            <a:ext cx="1905120" cy="955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23880" y="638280"/>
            <a:ext cx="1447920" cy="657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249880" y="2133720"/>
            <a:ext cx="2293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1600" y="2844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Fold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2232000"/>
            <a:ext cx="78487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you read the chapter, in the left column, list four different ways in which one could determine the age of a rock.  In the right column, note whether each method gives and absolute or a relative 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762120"/>
            <a:ext cx="4648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ummarize in a 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0" y="720720"/>
            <a:ext cx="19051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697560" y="28440"/>
            <a:ext cx="1718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Video Cl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20120" y="758880"/>
            <a:ext cx="97776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cmFlash612"/>
          <p:cNvGraphicFramePr/>
          <p:nvPr/>
        </p:nvGraphicFramePr>
        <p:xfrm>
          <a:off x="1625760" y="1270080"/>
          <a:ext cx="5905440" cy="452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cmFlash6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5760" y="1270080"/>
                    <a:ext cx="590544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697560" y="28440"/>
            <a:ext cx="1718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Video Cl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553080" y="914400"/>
            <a:ext cx="15876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cmFlash258"/>
          <p:cNvGraphicFramePr/>
          <p:nvPr/>
        </p:nvGraphicFramePr>
        <p:xfrm>
          <a:off x="941400" y="1905120"/>
          <a:ext cx="727560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cmFlash25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1400" y="1905120"/>
                    <a:ext cx="72756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697560" y="28440"/>
            <a:ext cx="1718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Video Cl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149960" y="685800"/>
            <a:ext cx="1003320" cy="48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cmFlash561"/>
          <p:cNvGraphicFramePr/>
          <p:nvPr/>
        </p:nvGraphicFramePr>
        <p:xfrm>
          <a:off x="941400" y="1270080"/>
          <a:ext cx="7275600" cy="452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cmFlash56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1400" y="1270080"/>
                    <a:ext cx="7275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" y="380880"/>
            <a:ext cx="8867880" cy="5848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38680" y="6173640"/>
            <a:ext cx="1828800" cy="641520"/>
          </a:xfrm>
          <a:prstGeom prst="rect">
            <a:avLst/>
          </a:prstGeom>
          <a:noFill/>
          <a:ln w="255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cca22"/>
                </a:solidFill>
                <a:latin typeface="Times New Roman"/>
              </a:rPr>
              <a:t>Click on individual thumbnail images to view larger ver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47920" y="819000"/>
            <a:ext cx="838080" cy="62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3924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476440" y="7812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2200" y="7812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86480" y="62856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715000" y="7812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00760" y="723960"/>
            <a:ext cx="914400" cy="749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8039160" y="628560"/>
            <a:ext cx="60948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17520" y="1917720"/>
            <a:ext cx="914400" cy="558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1504800" y="1733400"/>
            <a:ext cx="67320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2476440" y="1847880"/>
            <a:ext cx="914400" cy="660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2"/>
          <a:stretch/>
        </p:blipFill>
        <p:spPr>
          <a:xfrm>
            <a:off x="3562200" y="1905120"/>
            <a:ext cx="914400" cy="55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3"/>
          <a:stretch/>
        </p:blipFill>
        <p:spPr>
          <a:xfrm>
            <a:off x="4648320" y="1847880"/>
            <a:ext cx="914400" cy="711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4"/>
          <a:stretch/>
        </p:blipFill>
        <p:spPr>
          <a:xfrm>
            <a:off x="5734080" y="1866960"/>
            <a:ext cx="914400" cy="635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6800760" y="1828800"/>
            <a:ext cx="914400" cy="723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7886880" y="190512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7"/>
          <a:stretch/>
        </p:blipFill>
        <p:spPr>
          <a:xfrm>
            <a:off x="317520" y="2838600"/>
            <a:ext cx="914400" cy="88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2476440" y="3067200"/>
            <a:ext cx="914400" cy="419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1390680" y="3009960"/>
            <a:ext cx="91440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5066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s are more likely to form if hard parts of the dead organisms are buried quick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70320" y="685800"/>
            <a:ext cx="1476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ossi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64960" y="0"/>
            <a:ext cx="31586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viewing Main Id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2765520"/>
            <a:ext cx="8001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fossils form when original materials that made up the organisms are replaced with minerals. Other fossils form when remains are subjected to heat and pressure, leaving only a carbon film behind. Some fossils are the tracks or traces left by ancient org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4479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inciple of superposition states that, in undisturbed layers, older rocks lie underneath younger r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68520" y="685800"/>
            <a:ext cx="4641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elative Ages of Roc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9718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onformities, or gaps in the rock record, are due to erosion or periods of time during which no deposition occu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64960" y="0"/>
            <a:ext cx="31586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viewing Main Id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45720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ck layers can be correlated using rock types and foss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52388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olute dating provides an age in years for the r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69240" y="685800"/>
            <a:ext cx="4589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bsolute Ages of R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2743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lf-life of a radioactive isotope is the time it takes for half of the atoms of the isotope to decay into another isot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64960" y="0"/>
            <a:ext cx="31586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viewing Main Id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4960" y="147780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se fossils consists of a silhouette of the original organis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323064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arbon fil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c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ind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60040" y="8380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53036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A. Carbon film fossils form when conditions in the sediment force liquids and gases from the organism’s body, leaving just carbon resid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4960" y="147780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se conditions makes fossil formation least like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323064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buried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attacked by scaven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made up of hard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ossessed a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0040" y="8380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53036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B. Dead organisms are more likely to become fossils when they are protected from agents of destruction of all kinds, including scaveng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4960" y="163044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ccurs first in the formation of a c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04812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mpaction turns sediment into 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hard part of organism disso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mold fills with sed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organism buried in sed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0040" y="8380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14050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D. Compaction occurs after the object in sediment is buried by more sed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809720" y="2552760"/>
            <a:ext cx="55245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4960" y="156060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fossils be used to show that rock layers in different locations are the same 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60040" y="298296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37800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same types of fossils are found in the layers in different locations, it’s likely that the rock is the same 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231240" y="6299280"/>
            <a:ext cx="90756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 3.2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371600"/>
            <a:ext cx="7924680" cy="46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ansfer images to your own power point follow the following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the “Resource” file from the CD-ROM disc – view the file in the “normal view” or “slide sorter view” mode - go to slide #2 – from there you can click through the images and follow these instructions. Click once on the im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the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 to your own power point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te the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633240"/>
            <a:ext cx="4648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ransfer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4960" y="1589040"/>
            <a:ext cx="731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reaking down of unstable isotopes into other isotopes and particles is called 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344484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half-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inorganic metamorph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radioactive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relative de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0040" y="9144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71144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In some cases, large amounts of energy are released during this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4960" y="1662120"/>
            <a:ext cx="2741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percent of parent isotope left after 5 half-li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471840" y="1801800"/>
          <a:ext cx="4876920" cy="3532320"/>
        </p:xfrm>
        <a:graphic>
          <a:graphicData uri="http://schemas.openxmlformats.org/drawingml/2006/table">
            <a:tbl>
              <a:tblPr/>
              <a:tblGrid>
                <a:gridCol w="2209680"/>
                <a:gridCol w="2667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alf-Li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Isotope Remaining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828800"/>
            <a:ext cx="175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0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6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471840" y="1801800"/>
          <a:ext cx="4876920" cy="3532320"/>
        </p:xfrm>
        <a:graphic>
          <a:graphicData uri="http://schemas.openxmlformats.org/drawingml/2006/table">
            <a:tbl>
              <a:tblPr/>
              <a:tblGrid>
                <a:gridCol w="2209680"/>
                <a:gridCol w="2667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alf-Li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Isotope Remaining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0040" y="9144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16462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With each successive half-life, the amount of parent material decreases by ha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4960" y="1662120"/>
            <a:ext cx="3122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half-lives will it take to reduce the parent material by 75%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657600" y="1719360"/>
          <a:ext cx="4876920" cy="3531960"/>
        </p:xfrm>
        <a:graphic>
          <a:graphicData uri="http://schemas.openxmlformats.org/drawingml/2006/table">
            <a:tbl>
              <a:tblPr/>
              <a:tblGrid>
                <a:gridCol w="2209680"/>
                <a:gridCol w="2667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alf-Li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Isotope Remaining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676520"/>
            <a:ext cx="1218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657600" y="1719360"/>
          <a:ext cx="4876920" cy="3531960"/>
        </p:xfrm>
        <a:graphic>
          <a:graphicData uri="http://schemas.openxmlformats.org/drawingml/2006/table">
            <a:tbl>
              <a:tblPr/>
              <a:tblGrid>
                <a:gridCol w="2209680"/>
                <a:gridCol w="2667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alf-Li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Isotope Remaining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14778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After 3 half-lives, 25% of the parent material rema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4960" y="1616040"/>
            <a:ext cx="3503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hat age rock layers would you expect to find only Illaenus fossi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33720" y="1371600"/>
            <a:ext cx="4686480" cy="4530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676520"/>
            <a:ext cx="2895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286-325 millio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360-410 millio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410-440 millio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440-505 million yea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933720" y="1371600"/>
            <a:ext cx="4686480" cy="4530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3124080" y="7621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Dinosaur Fos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676520" y="1717560"/>
            <a:ext cx="57909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147780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D. According to the table, it is found in rock from 410-505 million years old, but it is the only one of the fossils found in the layers that are 440-505 million years 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4960" y="1631880"/>
            <a:ext cx="2436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rding to the figure, which of these rock layers is the olde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867040" y="1630440"/>
            <a:ext cx="5867280" cy="40971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752480"/>
            <a:ext cx="2667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armel F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Cutler G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akota 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Entrada 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867040" y="1630440"/>
            <a:ext cx="5867280" cy="40971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14778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B. According to the figure, Cutler Gp rock layer was deposited 225-280 million years a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4960" y="152388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structure labeled “D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714680" y="2717640"/>
            <a:ext cx="5715000" cy="26164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7242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alpha p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beta p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143000" y="1312920"/>
            <a:ext cx="6858000" cy="31399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191120" y="47228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aughter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rot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5308560" y="6172200"/>
            <a:ext cx="711360" cy="6001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232320" y="6299280"/>
            <a:ext cx="85428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2.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4778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B. In beta decay, a neutron changes into a proton and gives off a high-energy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23880" y="68580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dvance to the next item or next page click on any of the following keys: mouse, space bar, enter, down or forward arro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31000" y="1981080"/>
            <a:ext cx="63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this icon to return to the table of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2080" y="2749680"/>
            <a:ext cx="60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this icon to return to the previous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32800" y="359100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this icon to move to the next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746080" y="4419720"/>
            <a:ext cx="55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this icon to open the resources f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43600" y="0"/>
            <a:ext cx="80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91920" y="518148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this icon to go to the end of the pres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197964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2120" y="274464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20" y="5160960"/>
            <a:ext cx="533160" cy="477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62120" y="3581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762120" y="4419720"/>
            <a:ext cx="190476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43240" y="3224160"/>
            <a:ext cx="617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nd of Chapter Resources 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3086280" y="838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Dinosaur Fos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25760" y="1676520"/>
            <a:ext cx="58924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62120" y="170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Dinosaur To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114800" y="1066680"/>
            <a:ext cx="415764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076640" y="838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C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663560" y="1752480"/>
            <a:ext cx="581688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304920" y="16765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Cast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80200"/>
            <a:ext cx="914400" cy="501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819520" y="914400"/>
            <a:ext cx="57150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26:19Z</dcterms:created>
  <dc:creator>Cherie Hatton</dc:creator>
  <dc:description/>
  <dc:language>en-US</dc:language>
  <cp:lastModifiedBy>cindah</cp:lastModifiedBy>
  <dcterms:modified xsi:type="dcterms:W3CDTF">2007-03-02T14:48:32Z</dcterms:modified>
  <cp:revision>354</cp:revision>
  <dc:subject/>
  <dc:title>Slide 1</dc:title>
</cp:coreProperties>
</file>